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11.wmf" ContentType="image/x-wmf"/>
  <Override PartName="/ppt/media/image4.gif" ContentType="image/gif"/>
  <Override PartName="/ppt/media/image12.wmf" ContentType="image/x-wmf"/>
  <Override PartName="/ppt/media/image5.gif" ContentType="image/gif"/>
  <Override PartName="/ppt/media/image13.wmf" ContentType="image/x-wmf"/>
  <Override PartName="/ppt/media/image7.gif" ContentType="image/gif"/>
  <Override PartName="/ppt/media/image8.gif" ContentType="image/gif"/>
  <Override PartName="/ppt/media/image9.gif" ContentType="image/gi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C3B-F273-481E-B14E-3C553DF5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9888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DB6-FD19-4BD5-94D6-D5100B62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068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9AA-B496-4EA6-B4F5-E0BCB8C3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668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512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668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512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6FD-BF44-4DEA-9FDF-A9AA39A7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D8F8-E35F-4FF7-B8B9-A816DDAA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8ACB-3C65-402A-8038-5793362F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3BD4-0A52-4018-B80F-B5B9FA71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8825-5650-4061-8D13-54E9979F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331-5666-4D64-8D4F-DF6FA4FC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-357480"/>
            <a:ext cx="7461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8B9-C01D-4135-8B7D-FAF1051D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0334-086A-4D4B-9886-4597E045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9F1-E9D3-4241-87DE-AF59779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068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A018-44AC-404B-AF2D-56EF8B9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A758-8808-43AD-82CD-BCD6CF53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9888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3543-B1F1-4D6B-B938-63D168A0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068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8A56-D8FE-4BF8-9C87-0C9A1DC2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668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512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668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512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2396-F8DB-48BA-A91D-F7D49640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F4D-54D0-47AE-8C21-ADE80F32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9E4-E856-429B-9045-9B89D8A6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C6A-2959-43B2-8EBE-EEF160A2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57480"/>
            <a:ext cx="7461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8A9-20AA-48CB-87D1-3CCE4E6D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928-0552-438A-8D4F-8AE8B84E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068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DFC-41A7-4CD7-96C2-63A8DBAA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071-D9F9-4E78-B1BE-27DF2FC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593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498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17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8FDDA3-BFD1-4B7F-840A-3AAFFC7B30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80600"/>
            <a:ext cx="62420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160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0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65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B481E7-1EB7-4799-AECE-33B3A31023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t.wikipedia.org/wiki/Sa&#250;d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t.wikipedia.org/wiki/Organismo" TargetMode="External"/><Relationship Id="rId2" Type="http://schemas.openxmlformats.org/officeDocument/2006/relationships/hyperlink" Target="http://www.google.com.br/#hl=pt-BR&amp;source=hp&amp;biw=&amp;bih=&amp;q=preven&#231;&#227;o+de+doen&#231;as&amp;aq=0&amp;aqi=g10&amp;aql=&amp;oq=preven&#231;&#227;o+de+doen&amp;fp=1" TargetMode="External"/><Relationship Id="rId3" Type="http://schemas.openxmlformats.org/officeDocument/2006/relationships/hyperlink" Target="http://www.dicio.com.br/asseio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Disenteria" TargetMode="External"/><Relationship Id="rId2" Type="http://schemas.openxmlformats.org/officeDocument/2006/relationships/hyperlink" Target="http://www.google.com.br/search?q=febre+tif&#243;ide&amp;hl=pt-BR&amp;prmd=ivns&amp;tbm=isch&amp;tbo=u&amp;source=univ&amp;sa=X&amp;ei=x5m5TeyGM6bg0QHC3OzmDw&amp;ved=0CDUQsAQ&amp;biw=1312&amp;bih=555" TargetMode="External"/><Relationship Id="rId3" Type="http://schemas.openxmlformats.org/officeDocument/2006/relationships/hyperlink" Target="http://pt.wikipedia.org/wiki/Salmonelose" TargetMode="External"/><Relationship Id="rId4" Type="http://schemas.openxmlformats.org/officeDocument/2006/relationships/hyperlink" Target="http://www.youtube.com/watch?v=RR3aO6B9Tp8" TargetMode="External"/><Relationship Id="rId5" Type="http://schemas.openxmlformats.org/officeDocument/2006/relationships/hyperlink" Target="http://www.abcdasaude.com.br/artigo.php?222" TargetMode="External"/><Relationship Id="rId6" Type="http://schemas.openxmlformats.org/officeDocument/2006/relationships/hyperlink" Target="http://www.suapesquisa.com/idademedia/peste_negra.htm" TargetMode="External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br/search?q=alimentar-se+bem&amp;hl=pt-BR&amp;prmd=ivns&amp;tbm=isch&amp;tbo=u&amp;source=univ&amp;sa=X&amp;ei=5p25Tei5OKjw0gGZx_XVDw&amp;ved=0CGoQsAQ&amp;biw=1312&amp;bih=555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C&#243;lera" TargetMode="External"/><Relationship Id="rId2" Type="http://schemas.openxmlformats.org/officeDocument/2006/relationships/hyperlink" Target="http://pt.wikipedia.org/wiki/Doen&#231;a_gastrointestinal" TargetMode="External"/><Relationship Id="rId3" Type="http://schemas.openxmlformats.org/officeDocument/2006/relationships/hyperlink" Target="http://www.cives.ufrj.br/informacao/malaria/mal-iv.html" TargetMode="External"/><Relationship Id="rId4" Type="http://schemas.openxmlformats.org/officeDocument/2006/relationships/hyperlink" Target="http://www.youtube.com/watch?v=ZIQnZv7AfdI" TargetMode="External"/><Relationship Id="rId5" Type="http://schemas.openxmlformats.org/officeDocument/2006/relationships/hyperlink" Target="http://pt.wikipedia.org/wiki/Febre_amarela" TargetMode="External"/><Relationship Id="rId6" Type="http://schemas.openxmlformats.org/officeDocument/2006/relationships/hyperlink" Target="http://www.foixico.com/wp-content/uploads/2011/02/leishmaniose.jpg" TargetMode="External"/><Relationship Id="rId7" Type="http://schemas.openxmlformats.org/officeDocument/2006/relationships/hyperlink" Target="http://www.google.com.br/imgres?imgurl=http://polynesietahiti.canalblog.com/images/elephantiasis.jpg&amp;imgrefurl=http://polynesietahiti.canalblog.com/archives/2006/03/29/1610498.html&amp;usg=__iRdNjye_iQucJ3Gd_8sQBmmizD0=&amp;h=372&amp;w=547&amp;sz=75&amp;hl=pt-BR&amp;start=0&amp;sig2=Bia_AFs8C1AFdCNEElp9wA&amp;zoom=1&amp;tbnid=n1Bnk7yIxSWAbM:&amp;tbnh=121&amp;tbnw=153&amp;ei=YaK5Td6jF6SU0QHlzJDTDw&amp;prev=/search?q=filariose&amp;hl=pt-BR&amp;sa=G&amp;biw=1312&amp;bih=579&amp;gbv=2&amp;tbm=isch&amp;itbs=1&amp;iact=hc&amp;vpx=272&amp;vpy=285&amp;dur=4641&amp;hovh=185&amp;hovw=272&amp;tx=76&amp;ty=109&amp;page=1&amp;ndsp=21&amp;ved=1t:429,r:15,s:0" TargetMode="External"/><Relationship Id="rId8" Type="http://schemas.openxmlformats.org/officeDocument/2006/relationships/hyperlink" Target="http://www.abcdasaude.com.br/artigo.php?417" TargetMode="External"/><Relationship Id="rId9" Type="http://schemas.openxmlformats.org/officeDocument/2006/relationships/hyperlink" Target="http://www.brasilescola.com/doencas/cisticercose.htm" TargetMode="External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49200"/>
            <a:ext cx="6248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3300"/>
                </a:solidFill>
                <a:latin typeface="Arial Black"/>
              </a:rPr>
              <a:t>HIGIENE E </a:t>
            </a:r>
            <a:r>
              <a:rPr b="0" lang="pt-BR" sz="40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SAÚDE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osmic Sans MS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560" y="4114440"/>
            <a:ext cx="6019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3300"/>
                </a:solidFill>
                <a:latin typeface="Arial"/>
              </a:rPr>
              <a:t>Gizelda Rodrigues de Araú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609480" y="304920"/>
            <a:ext cx="74678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Bremen Bd BT"/>
              </a:rPr>
              <a:t>O que é HIGIE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Sistema de regras e práticas que visam a preservação das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funções do organismo</a:t>
            </a: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 e a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revenção de doenç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Conjunto das práticas que asseguram a limpeza nos ambientes públicos e nos locais de trabalh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Limpeza,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assei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091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3300"/>
                </a:solidFill>
                <a:latin typeface="Arial Black"/>
              </a:rPr>
              <a:t>FALTA DE HIGIENE TRANSMITE DOENÇA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600200"/>
          <a:ext cx="7696080" cy="4952880"/>
        </p:xfrm>
        <a:graphic>
          <a:graphicData uri="http://schemas.openxmlformats.org/drawingml/2006/table">
            <a:tbl>
              <a:tblPr/>
              <a:tblGrid>
                <a:gridCol w="2579760"/>
                <a:gridCol w="2558880"/>
                <a:gridCol w="2557440"/>
              </a:tblGrid>
              <a:tr h="71280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3300"/>
                          </a:solidFill>
                          <a:latin typeface="Bremen Blk BT"/>
                        </a:rPr>
                        <a:t>INIMIG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3300"/>
                          </a:solidFill>
                          <a:latin typeface="Bremen Blk BT"/>
                        </a:rPr>
                        <a:t>DOENÇAS QUE PEGAM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3300"/>
                          </a:solidFill>
                          <a:latin typeface="Bremen Blk BT"/>
                        </a:rPr>
                        <a:t>COMO PEGAM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524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MOS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"/>
                        </a:rPr>
                        <a:t>Disen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Febre tifó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/>
                        </a:rPr>
                        <a:t>Salmolone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/>
                        </a:rPr>
                        <a:t>Verminose e out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s suas patas,asas,corpofezes e saliva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484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RATO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ospir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/>
                        </a:rPr>
                        <a:t>Hantavír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/>
                        </a:rPr>
                        <a:t>Peste Bubônic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s suas fezes, urina, pulga e mordida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36" descr=""/>
          <p:cNvPicPr/>
          <p:nvPr/>
        </p:nvPicPr>
        <p:blipFill>
          <a:blip r:embed="rId7"/>
          <a:stretch/>
        </p:blipFill>
        <p:spPr>
          <a:xfrm>
            <a:off x="1295280" y="2590920"/>
            <a:ext cx="1371600" cy="153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7" descr=""/>
          <p:cNvPicPr/>
          <p:nvPr/>
        </p:nvPicPr>
        <p:blipFill>
          <a:blip r:embed="rId8"/>
          <a:stretch/>
        </p:blipFill>
        <p:spPr>
          <a:xfrm>
            <a:off x="1066680" y="4572000"/>
            <a:ext cx="1486080" cy="160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8" descr=""/>
          <p:cNvPicPr/>
          <p:nvPr/>
        </p:nvPicPr>
        <p:blipFill>
          <a:blip r:embed="rId9"/>
          <a:stretch/>
        </p:blipFill>
        <p:spPr>
          <a:xfrm>
            <a:off x="2819520" y="5638680"/>
            <a:ext cx="1382760" cy="8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762120" y="380880"/>
            <a:ext cx="7315200" cy="71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ARA TERMOS SAÚDE É PRECISO PRESER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IGIENE DO CORPO E DA 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ara temos saúde física é preci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vitar andar descalço e só usar roupas limp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Alimentar-se corret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Lavar as mãos antes das refeiçõ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urar um posto de saúde para tomar vacin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scovar os dentes  ao acordar , depois das refeições e antes de ir dormir.</a:t>
            </a:r>
            <a:r>
              <a:rPr b="1" lang="pt-BR" sz="2800" spc="-1" strike="noStrike">
                <a:solidFill>
                  <a:srgbClr val="000000"/>
                </a:solidFill>
                <a:latin typeface="Cosmic Sans MS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1067040" cy="100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5410080" y="5867280"/>
            <a:ext cx="17528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304920"/>
          <a:ext cx="7545240" cy="5489280"/>
        </p:xfrm>
        <a:graphic>
          <a:graphicData uri="http://schemas.openxmlformats.org/drawingml/2006/table">
            <a:tbl>
              <a:tblPr/>
              <a:tblGrid>
                <a:gridCol w="2514600"/>
                <a:gridCol w="2516040"/>
                <a:gridCol w="2514600"/>
              </a:tblGrid>
              <a:tr h="235584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BAR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e tifó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"/>
                        </a:rPr>
                        <a:t>Cólera,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erminose,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Doenças gastrointestina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s suas patas,asas, corpo e fezes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MOSQU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/>
                        </a:rPr>
                        <a:t>Malária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/>
                        </a:rPr>
                        <a:t>Dengue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/>
                        </a:rPr>
                        <a:t>Febre amarela,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/>
                        </a:rPr>
                        <a:t>Leishmaniose,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/>
                        </a:rPr>
                        <a:t>Filarios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vés da picada do mosquito fême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POR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/>
                        </a:rPr>
                        <a:t>Toxoplasm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/>
                        </a:rPr>
                        <a:t>Cisticercose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Teniase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zes e carne contaminad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35" descr=""/>
          <p:cNvPicPr/>
          <p:nvPr/>
        </p:nvPicPr>
        <p:blipFill>
          <a:blip r:embed="rId10"/>
          <a:stretch/>
        </p:blipFill>
        <p:spPr>
          <a:xfrm>
            <a:off x="380880" y="990720"/>
            <a:ext cx="2370240" cy="1622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"/>
          <p:cNvPicPr/>
          <p:nvPr/>
        </p:nvPicPr>
        <p:blipFill>
          <a:blip r:embed="rId11"/>
          <a:stretch/>
        </p:blipFill>
        <p:spPr>
          <a:xfrm>
            <a:off x="762120" y="4114800"/>
            <a:ext cx="2057400" cy="19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609480" y="228600"/>
            <a:ext cx="762012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omar banho todos os di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er sempre as unhas cortadas e limpas e evitar roê-l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Dormir cedo e acordar ce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aticar espor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ara termos saúde mental é preci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Ler bons livros e revist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ssistir a bons programas de televisã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assear, conhecer pessoas e lugares diferen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Divertir-s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1295280" cy="114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3048120" y="5638680"/>
            <a:ext cx="103824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7620120" y="4572000"/>
            <a:ext cx="1181160" cy="157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5562720" y="3657600"/>
            <a:ext cx="10033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62120" y="762120"/>
            <a:ext cx="72388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IGIENE D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uidados que devemos Ter com a higiene do Meio ambiente em que viv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uidar da limpeza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os di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Deixar as janelas aberta para que o ar circu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olocar o lixo em cestos com tamp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Não deixar a água parada em garrafas, pneus velhos, vasos de plantas etc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8:14:22Z</dcterms:created>
  <dc:creator>mirtes.lebrego</dc:creator>
  <dc:description/>
  <dc:language>en-US</dc:language>
  <cp:lastModifiedBy>ASPIRE 4732Z</cp:lastModifiedBy>
  <dcterms:modified xsi:type="dcterms:W3CDTF">2013-10-22T03:06:50Z</dcterms:modified>
  <cp:revision>6</cp:revision>
  <dc:subject/>
  <dc:title>HIGIENE E SAÚDE </dc:title>
</cp:coreProperties>
</file>